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02C-F20E-462B-B08C-6E79A0FB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BE7-84C5-4AF1-82F4-DE50449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C21-6DB9-4854-8BF2-0292BE89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15F-9386-4BB3-9F58-D17D8334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7B3-08F3-4775-B064-A0A62A9F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327-FA09-4FA0-BEF7-4DD4E776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AC6-0352-4803-B061-B157730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637-286C-46FA-AF30-65FFEEC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256-6B26-4EF1-B788-F88C000F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F38-9EE0-4868-B919-02B166B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69C-DD06-403C-B2BE-88577D1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135-9E6E-406B-B9C7-7CB4717E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3E1-39DD-49D0-A406-3CB112BDA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28600"/>
            <a:ext cx="8763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anguage 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 don’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inging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o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o I like comput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+v-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.g.I really enjoy listening to classical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95480"/>
            <a:ext cx="87631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起句子或分句（在否定句后）说某人、某事与刚才提到过的相同，这时要用倒装语序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正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.g David isn’t here tonigh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.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汤姆也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ither/Nor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51:45Z</dcterms:created>
  <dc:creator>user</dc:creator>
  <dc:description/>
  <dc:language>en-US</dc:language>
  <cp:lastModifiedBy>zhangjunguang</cp:lastModifiedBy>
  <dcterms:modified xsi:type="dcterms:W3CDTF">2003-08-08T14:14:13Z</dcterms:modified>
  <cp:revision>8</cp:revision>
  <dc:subject/>
  <dc:title>PowerPoint 演示文稿</dc:title>
</cp:coreProperties>
</file>